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061-E8A8-46AA-B05F-F7B9375F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424-3CD8-4302-9E17-CE66E8DC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AD0-D69D-4B30-9DD5-365DF82B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D54-7F8E-41E7-ACB5-65540CE2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9F56-C69A-4E99-A881-6FCC0DA3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486C-8299-480C-BB52-8E5B878F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5B9E-97BA-44D3-9391-046B6C35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30B6-3E6D-4895-B709-F261DA0F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ACF9-DC82-46F4-8CEE-8DCAFC4D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9041-83AF-490E-953A-4F0C5F9F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503D-48B1-4FA7-A3EA-610E2AAB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2C6-935F-4EBD-ABBC-9727E7B0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927D-BBAC-400D-8439-0ECA5990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61F6-C5E0-4E3F-93BF-C45E40DB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5C39-1007-48DB-91D4-99031702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3A63-1CCD-4FCD-902D-480DB155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8B09-BA08-4192-9D52-5EB2BBF5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8DE-395F-4E68-9A27-CED27F98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1DC-071C-41D6-957B-77F037BD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3C3-2D64-422E-8476-FA524074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D0F-F08E-443F-815A-C65BB899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FAD-ABA4-46FE-B59A-393996A4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0CC-3DE9-44F9-918F-8F9FA4F7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DF3-029E-4DD7-8185-4F995FA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567E-0D32-4AAE-9ECB-9BD9BA54F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017F-06BE-4648-9B36-43BA1007E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Pan and Til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il_fi" descr="IC504692"/>
          <p:cNvPicPr/>
          <p:nvPr/>
        </p:nvPicPr>
        <p:blipFill>
          <a:blip r:embed="rId1"/>
          <a:stretch/>
        </p:blipFill>
        <p:spPr>
          <a:xfrm>
            <a:off x="914400" y="274320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rg_hi" descr="ANd9GcSw7moXtVCTmD-LLyq3aYuqf48OTpNu4LCzSBlwMg6Vvw_jniPvyw"/>
          <p:cNvPicPr/>
          <p:nvPr/>
        </p:nvPicPr>
        <p:blipFill>
          <a:blip r:embed="rId2"/>
          <a:stretch/>
        </p:blipFill>
        <p:spPr>
          <a:xfrm>
            <a:off x="4267080" y="2743200"/>
            <a:ext cx="4496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Dol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il_fi" descr="Dolly_site_500"/>
          <p:cNvPicPr/>
          <p:nvPr/>
        </p:nvPicPr>
        <p:blipFill>
          <a:blip r:embed="rId1"/>
          <a:stretch/>
        </p:blipFill>
        <p:spPr>
          <a:xfrm>
            <a:off x="1905120" y="2590920"/>
            <a:ext cx="4762440" cy="4060800"/>
          </a:xfrm>
          <a:prstGeom prst="rect">
            <a:avLst/>
          </a:prstGeom>
          <a:ln w="0">
            <a:noFill/>
          </a:ln>
        </p:spPr>
      </p:pic>
      <p:pic>
        <p:nvPicPr>
          <p:cNvPr id="99" name="il_fi" descr="P12303602285003368s"/>
          <p:cNvPicPr/>
          <p:nvPr/>
        </p:nvPicPr>
        <p:blipFill>
          <a:blip r:embed="rId2"/>
          <a:stretch/>
        </p:blipFill>
        <p:spPr>
          <a:xfrm>
            <a:off x="6705720" y="1143000"/>
            <a:ext cx="1904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Hand He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Held        Steadi-cam     Mono-p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il_fi" descr="camera_steady_1"/>
          <p:cNvPicPr/>
          <p:nvPr/>
        </p:nvPicPr>
        <p:blipFill>
          <a:blip r:embed="rId1"/>
          <a:stretch/>
        </p:blipFill>
        <p:spPr>
          <a:xfrm>
            <a:off x="762120" y="3048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rg_hi" descr="ANd9GcQglZoszWelWfkeN58DDBBf4yVosdpKnAyL9W7D6qjs0-rf1Kd7SQ"/>
          <p:cNvPicPr/>
          <p:nvPr/>
        </p:nvPicPr>
        <p:blipFill>
          <a:blip r:embed="rId2"/>
          <a:stretch/>
        </p:blipFill>
        <p:spPr>
          <a:xfrm>
            <a:off x="3581280" y="3048120"/>
            <a:ext cx="1828800" cy="2133360"/>
          </a:xfrm>
          <a:prstGeom prst="rect">
            <a:avLst/>
          </a:prstGeom>
          <a:ln w="0">
            <a:noFill/>
          </a:ln>
        </p:spPr>
      </p:pic>
      <p:pic>
        <p:nvPicPr>
          <p:cNvPr id="104" name="il_fi" descr="alpenpod_small"/>
          <p:cNvPicPr/>
          <p:nvPr/>
        </p:nvPicPr>
        <p:blipFill>
          <a:blip r:embed="rId3"/>
          <a:stretch/>
        </p:blipFill>
        <p:spPr>
          <a:xfrm>
            <a:off x="5867280" y="3048120"/>
            <a:ext cx="1905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Crane, Jib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ne                        Jib (small crane)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il_fi" descr="wpid4374-20110119-Dolly-crane-shot"/>
          <p:cNvPicPr/>
          <p:nvPr/>
        </p:nvPicPr>
        <p:blipFill>
          <a:blip r:embed="rId1"/>
          <a:stretch/>
        </p:blipFill>
        <p:spPr>
          <a:xfrm>
            <a:off x="0" y="3124080"/>
            <a:ext cx="51814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rg_hi" descr="ANd9GcTgbv1TpCl4eV_TMm82P_TntE-5KuVYznHqp0CWHS6VpyRauDAN2w"/>
          <p:cNvPicPr/>
          <p:nvPr/>
        </p:nvPicPr>
        <p:blipFill>
          <a:blip r:embed="rId2"/>
          <a:stretch/>
        </p:blipFill>
        <p:spPr>
          <a:xfrm>
            <a:off x="5638680" y="3352680"/>
            <a:ext cx="2471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Optical Zoom, Digital Zo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tical Zoom (real zoom)       Digital Zo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Uses different “zoom” lenses,   -Digital l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 example, a 100mm lens        magn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rg_hi" descr="ANd9GcS1cyN3lafU5kh6e80euvS-gViRSynZPHeIuM0dqAGKbuGlbn86"/>
          <p:cNvPicPr/>
          <p:nvPr/>
        </p:nvPicPr>
        <p:blipFill>
          <a:blip r:embed="rId1"/>
          <a:stretch/>
        </p:blipFill>
        <p:spPr>
          <a:xfrm>
            <a:off x="1600200" y="47242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il_fi" descr="1308834624-36"/>
          <p:cNvPicPr/>
          <p:nvPr/>
        </p:nvPicPr>
        <p:blipFill>
          <a:blip r:embed="rId2"/>
          <a:stretch/>
        </p:blipFill>
        <p:spPr>
          <a:xfrm>
            <a:off x="5676840" y="4657680"/>
            <a:ext cx="34671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Aer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Taken from a plane or helicopter, etc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il_fi" descr="HNV-aerial-shot-s"/>
          <p:cNvPicPr/>
          <p:nvPr/>
        </p:nvPicPr>
        <p:blipFill>
          <a:blip r:embed="rId1"/>
          <a:stretch/>
        </p:blipFill>
        <p:spPr>
          <a:xfrm>
            <a:off x="2362320" y="3276720"/>
            <a:ext cx="4263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1-11-13T07:36:05Z</dcterms:modified>
  <cp:revision>91</cp:revision>
  <dc:subject/>
  <dc:title>Legacy Life Skills</dc:title>
</cp:coreProperties>
</file>